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1AE4-6090-40E5-8CFB-C17BF3DF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3BBA-4B07-476D-9605-51515E6F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E1A-463C-41D5-8BD5-FCE20797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A35-9D6D-4C6C-860B-2CF79F87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C615-E0CC-4F7D-A1F5-61CA5271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DF8B-1F8F-46CB-A556-8961AE5F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D99A-3B06-45A6-BA59-8CE011C6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3C45-FB1D-4F3E-8BD4-01F5BDF3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880F-155B-4588-A3EE-C03F37AF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4FC8-DEF6-4B44-94BC-A4128A30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AECE-E48E-467C-8544-44D5A9D2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751-BAB0-4ECF-977E-A8EAB2C4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7062-2953-4841-BB38-1EDFE5E4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58F5-A95F-4A2B-9A95-FB51634C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8490-4763-4DE4-9865-F1889EC5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F7EB-1366-4275-B0EC-5636D00C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6A6D-9ECF-4961-AAE2-12596DC7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4F8-A18B-476F-A122-D96DF163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537-41A5-44F0-BC65-0A1571C3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5A13-A7D2-44E9-8EC5-BF53D310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0C29-0642-454F-A972-45942DCF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E74-B37E-495E-ADE3-99AF92F4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80E-A940-4F84-8F52-34872541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940-B1C9-46EA-85DD-5E8EA97B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639D-1EB1-4DB9-9ECA-445A62887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6487-CE62-4BD0-9EE3-D3F60B9544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English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. 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A Li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r Ralph Waldo Em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r/Naturalist Henry David Thore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inist writer Margaret Fu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or Bronson Alc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9" descr="MPj04024600000[1]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9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rom 1840-1855, literature in America experienced a rebirth called the New England Renaissanc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rough their poetry, short stories, novels, and other works, writers during this period established a clear American voic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longer did they see their work as less influential than that of European author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nscendentalism was a part of this “flowering” of American literatur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alph Waldo Emerson and Henry David Thoreau were important voices in this philosophical movement that sought to have individuals “transcend” to a higher spiritual level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achieve this goal, the individual had to seek spiritual, not material, greatness and the essential truths of life through intui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erson was the philosopher and teacher. Thoreau was the student and the practition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Answer the following in your journals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are you affected by nature? Do you find comfort in it? Do you reflect the moods of n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role of nature in your lif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meant by an individual’s spiritual side? How do you define it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re a connection between the individual’s spirit and nature? If so, what is that connection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does it mean to know something intuitively? For example, has a parent or a sibling ever known something was wrong with you without having talked with or seen you? What do we mean when we say “I just know it”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 you demonstrate that you are an individual? Do you think independently of others or do you follow the crow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cendentali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Emerson, pg. 1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questions on pg. 1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genda-Freshm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a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e-wr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a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.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responses i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ister wants to become an industrial engineer, shes gonna write to the institute of industrial engineers in norcross georgia for more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graph:sentence::________: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te:Bland::color: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ranscendentalis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always two parties: the establishment and the moveme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6" descr="1emers1"/>
          <p:cNvPicPr/>
          <p:nvPr/>
        </p:nvPicPr>
        <p:blipFill>
          <a:blip r:embed="rId1"/>
          <a:stretch/>
        </p:blipFill>
        <p:spPr>
          <a:xfrm>
            <a:off x="380880" y="304920"/>
            <a:ext cx="1444680" cy="2057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1thor1"/>
          <p:cNvPicPr/>
          <p:nvPr/>
        </p:nvPicPr>
        <p:blipFill>
          <a:blip r:embed="rId2"/>
          <a:stretch/>
        </p:blipFill>
        <p:spPr>
          <a:xfrm>
            <a:off x="7272360" y="345960"/>
            <a:ext cx="14446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nscendenta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hilosophical movement that began around 18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stressed individualism, intuition, nature, and self-re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hilosophy which professes the essential unity of all creation and the innate goodness of man”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ritannica Macromed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hilosophy 101: The Three Big Beliefs of the Transcendentalis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connection or “correspondence” between the universe and the individual so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e is the gospel of the new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4" descr="MPj04004380000[1]"/>
          <p:cNvPicPr/>
          <p:nvPr/>
        </p:nvPicPr>
        <p:blipFill>
          <a:blip r:embed="rId1"/>
          <a:stretch/>
        </p:blipFill>
        <p:spPr>
          <a:xfrm>
            <a:off x="4716360" y="25621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cond Belie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contemplating objects in nature, people can transcend the world and discover union with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ver-Sou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unites us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a transparent eyeball; I am nothing; I see al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urrents of the Universal Being circulate through me, I am part or parcel of Go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4" descr="MCHM00445_0000[1]"/>
          <p:cNvPicPr/>
          <p:nvPr/>
        </p:nvPicPr>
        <p:blipFill>
          <a:blip r:embed="rId1"/>
          <a:stretch/>
        </p:blipFill>
        <p:spPr>
          <a:xfrm>
            <a:off x="7575480" y="0"/>
            <a:ext cx="1568520" cy="1254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MCHM00445_0000[1]"/>
          <p:cNvPicPr/>
          <p:nvPr/>
        </p:nvPicPr>
        <p:blipFill>
          <a:blip r:embed="rId2"/>
          <a:stretch/>
        </p:blipFill>
        <p:spPr>
          <a:xfrm>
            <a:off x="0" y="0"/>
            <a:ext cx="156852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rd Belie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your own intuition and own beliefs, however divergent from the social norm they may 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all people are inherently good, the individual’s intuitive response to any given situation will be the right thing to 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7" descr="MPj03154430000[1]"/>
          <p:cNvPicPr/>
          <p:nvPr/>
        </p:nvPicPr>
        <p:blipFill>
          <a:blip r:embed="rId1"/>
          <a:stretch/>
        </p:blipFill>
        <p:spPr>
          <a:xfrm>
            <a:off x="4838760" y="2622600"/>
            <a:ext cx="365760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1:38:11Z</dcterms:created>
  <dc:creator>cchapman</dc:creator>
  <dc:description/>
  <dc:language>en-US</dc:language>
  <cp:lastModifiedBy>Angie McCall</cp:lastModifiedBy>
  <dcterms:modified xsi:type="dcterms:W3CDTF">2014-01-14T22:08:32Z</dcterms:modified>
  <cp:revision>7</cp:revision>
  <dc:subject/>
  <dc:title>Transcendentalism</dc:title>
</cp:coreProperties>
</file>